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F0F-881C-497E-A126-6B024310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99C-55EF-4572-A0E2-4180EB10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70FE8-25FD-4C6B-B1A3-BC5E7012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90242-21D2-42E1-A9E9-EAB6BA6F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6DA46-BA1A-4D4E-8035-64A76316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A4A03-81D2-48EC-B99C-DE26B8FE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AB175-564A-470A-B98C-7D760FEF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A8F40-49DB-4BE4-AEE9-23DF204A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AFE2E-28A5-4CAB-B29A-F97D7B03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B4469-6D34-40AD-B0E7-938B0408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895EC-5FC5-4F9F-96C3-1D7ED6A7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8CBFF-61A0-45A0-ADF3-D9C005F6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2EC-0799-455B-85CD-D71AD76D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673876-B6E2-4612-84AA-C96F0EF3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FECA0-DAA6-4C7C-B324-26296627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EA4B09-3BF3-4BF9-AB40-DB9ACDA8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4D669-27ED-4AED-94A6-5B2C3900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4C2B3-BC8B-4ADE-B31E-B04C21EC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219AC-EDAE-40F3-B7C6-9B3F4A37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BF373-3ADC-4695-8B65-BD839BDD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318AB-5132-44C3-831A-D8AEC6B0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6AED04-8B0E-4266-A0D6-3CF5C65D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A9C0CE-08E8-412A-ADEA-1803229F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C32-B062-48D9-A41C-5FAAA346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4CB14-57EA-4F3A-A071-13248B82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873DF4-360F-4E7A-B89E-EF2C2F39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B05F34-80F3-44A2-B661-945B1BE7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F8E50F-A7ED-4B6B-9137-EB8AD226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D291A9-5274-48A5-BF98-53BEA3FF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1B92E0-04BA-4A58-AA26-5D88E316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B4B0CC-E2D1-441B-AB0E-32878FF3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D71C78-9D17-45C4-BF90-375DB157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AF3048-6454-4269-8F1F-B53684EF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833725-C4BC-49EB-B30D-9D46F5E5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7174-0E16-4E16-B7B1-CD3069B6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8545C3-CDE6-41D1-9E74-3DBABDEE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4D831D-8DDC-47B8-9000-169AAF2C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99B194-E953-4189-8E3C-C3E44B1C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0925-C00F-4D44-8E95-02B6CF0B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8877-AAE1-47E4-8ED2-D72FF5B5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01DD-7C06-4ED1-82C9-67CE9C65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6A5E-68D9-4546-9FF8-63C1AB42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68CC-BB14-4DCB-AE8B-AFEA39BC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C629-1DC1-4BFE-AF78-85A418DC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4EF-5CF5-4503-8AE1-68602D8C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26AE-FE7A-491D-87FE-84EBDE7E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3B26-8CA0-44A9-9CD6-7DE5F3DB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CEFA-CC2F-4EC9-AE3D-1DB1EFA2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3D3E-889F-4784-9DD4-4F6B72E4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51F0-A5CA-4D1B-B0C9-20448D3C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13686-8F76-4EDA-B903-8614BB6D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FED40-33B3-4591-875B-DE813461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6B6EF-35B5-4E56-87FB-7ABF16CF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6D01-008C-42A1-89CA-2778EE59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E98F-AA50-4F9F-A941-56C13774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3AD-F582-4EB6-859F-BEC8E399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195CB-7F7A-474A-BA36-C860C79F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EEFEC-8F47-4CA5-A6C3-4AEB872C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AEE5-F221-4661-960C-A396818B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478E7-AB99-4729-B38E-E49ECD77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46AB-48FE-48EC-8B39-3D69F562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B2F6-6256-40C3-A867-A2F138FF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42B34-0337-4FB2-B0CD-CF0758B3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D0AB6-3266-465E-AA8D-48801DBB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B472-9B14-4ABD-9674-7FE9D9D0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1BE81-8C7E-45CF-B1E8-53898197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5F0-2C82-4F73-ACBF-C826CFF0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1AA04-E6A2-43F2-8B78-9B09B48F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487D-6ACF-4AFA-8CDA-3FB04B80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0E162-EF00-4DA1-8D84-D1A0A30D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C0378-CFD0-4BB2-97F3-C9AD780B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6A16A-D9DF-4EFF-A8F9-FF47527E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28AF0-B4D5-420E-AB3A-1389F5AB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33F46-8C3A-4C7C-BF39-397AB49B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094A-E7D9-4FE2-8B28-A86BF1F4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56B7B-DA59-49D4-B66C-D8DF866A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9BF1C-9BAC-435B-924E-88E60CEE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30E-F41A-448A-BA71-613FDAD9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B3FC8-D75B-4408-8860-5831590F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A3AA8-A2D3-4B5B-9DCD-EBBA2528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B1C68-FD4D-423A-9CEE-29A72F5D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2AF34-3047-4563-859F-B18A69B6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4ED47-9F4F-46CA-8A18-1486FCCE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D3DF0-31FA-41EE-A3DA-DDBB9084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46D3D-E58A-4376-96A9-9FA3BBD5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6611B-2440-4B93-A4CB-3F5BDD21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475FF-9EB2-45F4-9ADF-9140CC24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A85E0-F5FE-44A2-960A-5FD5EA18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771-4589-49FE-8077-81367138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C3D41-95E6-433D-9A04-DEF2A2CF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52AFB-7446-446E-93D4-E10B7BF7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99163-4A1F-40B6-9CCD-E7E8CA7C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0FE8E-FF57-4EE4-86DF-90860F47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9BF08-DBD1-4888-9610-9F02DF3F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8FCD1-AED6-4F53-9653-1256AE82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1AC02-1783-4C64-BD92-52D689A4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B7A45-F62A-4DFA-9995-12D9CFED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48E25-EEB7-4063-9F8E-1B065183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4EFE4-F8CA-4F84-B915-933F4F2F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7F4-858A-47F0-91CA-AAE2F1AE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FEE89-055F-4F1E-A814-573A2AC8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176DE-4F0B-4870-B8D5-6F3D4DC3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1D847-6A53-47E6-AAD6-B887518A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55DB5-909B-416E-8288-1089C997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F9C92-1760-4C7A-B6EA-6815095F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F3825-CE3C-447A-9D01-54CD5391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2F440-CA7D-4E5B-AA02-1B639A1F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2A404-33FD-418B-B59C-184CD5BB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1107F-D79B-4278-8D10-0AE82AF2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6B0AD-C092-47E2-9715-B574D4B3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60C-E668-4421-A2B0-BB70F287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577AD-ADB2-4914-ABD3-14394670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257A0-44FD-4D1B-A005-171B91CA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D8082-F668-4A1B-B0B1-8F016BB1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9440A-5353-4F89-A198-DE989253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C2851-E936-4CD9-A37A-15C9C1C0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7FCEF-2E71-48A6-B9E6-50C08BAF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93426-5813-4E2D-8130-820D7992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41CF9-1A05-4366-91C7-92C935D2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71F93-76CA-4FB5-B272-E68B04DE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A9A81-DE81-4123-842C-0B62A924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2F0-26A9-4B3D-A709-155BE961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40CCC-2D30-4083-9791-6D800763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9B673-D28C-487C-8230-890D3F0B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252C6-3085-4B38-9174-8C03FFB5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D6D60-1814-4D5D-9169-78943D21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1D639-93BD-4E9D-86D3-6B6603FB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ECF64-2A82-44B5-A61A-D33312A0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D271A-5292-4F41-AE61-FD6FA636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DA9E6-EFBC-4B7D-84BE-77F6E576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732AA-B80D-464B-BECD-4C3E8F2E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E8E86-0C0B-4F7B-93CB-FED742C4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52D4-33F1-4477-8626-0BDF8F7826D5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C751-C32A-43DD-A80C-01171C063771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2894-94E0-4889-AA1C-791D530A5541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236A-D438-4994-BA78-DB3DD9FD931A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DF8C-5B55-4A23-93A6-855406168FE5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0206-B1D7-4A66-8EE6-C71439158629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212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5E16-9FA7-45DF-8F86-6BFECED74338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212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175F-93DA-41FB-99B3-8C81AEA2CB00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8EC6-9857-405B-923A-A5881EE8EA80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A8AE-A53E-45CF-92EC-DFC1525CA4D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6257-C905-44C0-8D6D-5D550117D15C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3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Прямоугольник 3" descr=""/>
          <p:cNvPicPr/>
          <p:nvPr/>
        </p:nvPicPr>
        <p:blipFill>
          <a:blip r:embed="rId2"/>
          <a:stretch/>
        </p:blipFill>
        <p:spPr>
          <a:xfrm>
            <a:off x="731880" y="1768320"/>
            <a:ext cx="7699320" cy="2359080"/>
          </a:xfrm>
          <a:prstGeom prst="rect">
            <a:avLst/>
          </a:prstGeom>
          <a:ln w="0">
            <a:noFill/>
          </a:ln>
        </p:spPr>
      </p:pic>
      <p:pic>
        <p:nvPicPr>
          <p:cNvPr id="557" name="Pesnya iz detstva - .mp3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Рисунок 1" descr=""/>
          <p:cNvPicPr/>
          <p:nvPr/>
        </p:nvPicPr>
        <p:blipFill>
          <a:blip r:embed="rId2"/>
          <a:stretch/>
        </p:blipFill>
        <p:spPr>
          <a:xfrm>
            <a:off x="3714840" y="500040"/>
            <a:ext cx="5235480" cy="5654520"/>
          </a:xfrm>
          <a:prstGeom prst="rect">
            <a:avLst/>
          </a:prstGeom>
          <a:ln w="0">
            <a:noFill/>
          </a:ln>
        </p:spPr>
      </p:pic>
      <p:sp>
        <p:nvSpPr>
          <p:cNvPr id="575" name="Прямоугольник 2"/>
          <p:cNvSpPr/>
          <p:nvPr/>
        </p:nvSpPr>
        <p:spPr>
          <a:xfrm>
            <a:off x="285840" y="57168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Я пыхчу, пыхчу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Больше греться не хочу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Крышка громко зазвенела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«Пейте чай, вода вскипела!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Рисунок 1" descr=""/>
          <p:cNvPicPr/>
          <p:nvPr/>
        </p:nvPicPr>
        <p:blipFill>
          <a:blip r:embed="rId2"/>
          <a:stretch/>
        </p:blipFill>
        <p:spPr>
          <a:xfrm>
            <a:off x="3714840" y="785880"/>
            <a:ext cx="4581360" cy="5240160"/>
          </a:xfrm>
          <a:prstGeom prst="rect">
            <a:avLst/>
          </a:prstGeom>
          <a:ln w="0">
            <a:noFill/>
          </a:ln>
        </p:spPr>
      </p:pic>
      <p:sp>
        <p:nvSpPr>
          <p:cNvPr id="577" name="Прямоугольник 2"/>
          <p:cNvSpPr/>
          <p:nvPr/>
        </p:nvSpPr>
        <p:spPr>
          <a:xfrm>
            <a:off x="285840" y="642960"/>
            <a:ext cx="285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еприступная на вид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одбоченившись стои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А внутри-то, посмотр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Угощение внутри!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Рисунок 1" descr=""/>
          <p:cNvPicPr/>
          <p:nvPr/>
        </p:nvPicPr>
        <p:blipFill>
          <a:blip r:embed="rId2"/>
          <a:stretch/>
        </p:blipFill>
        <p:spPr>
          <a:xfrm>
            <a:off x="357120" y="1785960"/>
            <a:ext cx="8244000" cy="4635360"/>
          </a:xfrm>
          <a:prstGeom prst="rect">
            <a:avLst/>
          </a:prstGeom>
          <a:ln w="0">
            <a:noFill/>
          </a:ln>
        </p:spPr>
      </p:pic>
      <p:sp>
        <p:nvSpPr>
          <p:cNvPr id="579" name="Прямоугольник 2"/>
          <p:cNvSpPr/>
          <p:nvPr/>
        </p:nvSpPr>
        <p:spPr>
          <a:xfrm>
            <a:off x="642960" y="2858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ечём блины, картошку жарим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Омлет готовим мы на ней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а ней нельзя и мы не пари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астой из трав и отрубе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Прямоугольник 1" descr=""/>
          <p:cNvPicPr/>
          <p:nvPr/>
        </p:nvPicPr>
        <p:blipFill>
          <a:blip r:embed="rId2"/>
          <a:stretch/>
        </p:blipFill>
        <p:spPr>
          <a:xfrm>
            <a:off x="768240" y="-23760"/>
            <a:ext cx="800424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Рисунок 1" descr=""/>
          <p:cNvPicPr/>
          <p:nvPr/>
        </p:nvPicPr>
        <p:blipFill>
          <a:blip r:embed="rId2"/>
          <a:stretch/>
        </p:blipFill>
        <p:spPr>
          <a:xfrm>
            <a:off x="304920" y="295200"/>
            <a:ext cx="3475080" cy="2702160"/>
          </a:xfrm>
          <a:prstGeom prst="rect">
            <a:avLst/>
          </a:prstGeom>
          <a:ln w="0">
            <a:noFill/>
          </a:ln>
        </p:spPr>
      </p:pic>
      <p:pic>
        <p:nvPicPr>
          <p:cNvPr id="582" name="Рисунок 2" descr=""/>
          <p:cNvPicPr/>
          <p:nvPr/>
        </p:nvPicPr>
        <p:blipFill>
          <a:blip r:embed="rId3"/>
          <a:stretch/>
        </p:blipFill>
        <p:spPr>
          <a:xfrm>
            <a:off x="6294600" y="246240"/>
            <a:ext cx="2022480" cy="2455560"/>
          </a:xfrm>
          <a:prstGeom prst="rect">
            <a:avLst/>
          </a:prstGeom>
          <a:ln w="0">
            <a:noFill/>
          </a:ln>
        </p:spPr>
      </p:pic>
      <p:pic>
        <p:nvPicPr>
          <p:cNvPr id="583" name="Рисунок 3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3419280" cy="197172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4" descr=""/>
          <p:cNvPicPr/>
          <p:nvPr/>
        </p:nvPicPr>
        <p:blipFill>
          <a:blip r:embed="rId5"/>
          <a:stretch/>
        </p:blipFill>
        <p:spPr>
          <a:xfrm>
            <a:off x="4500720" y="3282840"/>
            <a:ext cx="4356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Рисунок 1" descr=""/>
          <p:cNvPicPr/>
          <p:nvPr/>
        </p:nvPicPr>
        <p:blipFill>
          <a:blip r:embed="rId2"/>
          <a:stretch/>
        </p:blipFill>
        <p:spPr>
          <a:xfrm>
            <a:off x="395280" y="309600"/>
            <a:ext cx="2746440" cy="2543040"/>
          </a:xfrm>
          <a:prstGeom prst="rect">
            <a:avLst/>
          </a:prstGeom>
          <a:ln w="0">
            <a:noFill/>
          </a:ln>
        </p:spPr>
      </p:pic>
      <p:pic>
        <p:nvPicPr>
          <p:cNvPr id="586" name="Рисунок 2" descr=""/>
          <p:cNvPicPr/>
          <p:nvPr/>
        </p:nvPicPr>
        <p:blipFill>
          <a:blip r:embed="rId3"/>
          <a:stretch/>
        </p:blipFill>
        <p:spPr>
          <a:xfrm>
            <a:off x="5435640" y="328680"/>
            <a:ext cx="3365640" cy="259560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3" descr=""/>
          <p:cNvPicPr/>
          <p:nvPr/>
        </p:nvPicPr>
        <p:blipFill>
          <a:blip r:embed="rId4"/>
          <a:stretch/>
        </p:blipFill>
        <p:spPr>
          <a:xfrm>
            <a:off x="395280" y="3168720"/>
            <a:ext cx="2746440" cy="3139920"/>
          </a:xfrm>
          <a:prstGeom prst="rect">
            <a:avLst/>
          </a:prstGeom>
          <a:ln w="0">
            <a:noFill/>
          </a:ln>
        </p:spPr>
      </p:pic>
      <p:pic>
        <p:nvPicPr>
          <p:cNvPr id="588" name="Рисунок 4" descr=""/>
          <p:cNvPicPr/>
          <p:nvPr/>
        </p:nvPicPr>
        <p:blipFill>
          <a:blip r:embed="rId5"/>
          <a:stretch/>
        </p:blipFill>
        <p:spPr>
          <a:xfrm>
            <a:off x="4905360" y="3573360"/>
            <a:ext cx="38959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eorgia"/>
              </a:rPr>
              <a:t>      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8000" spc="-1" strike="noStrike">
                <a:solidFill>
                  <a:srgbClr val="ff0000"/>
                </a:solidFill>
                <a:latin typeface="Georgi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1" name="Pesnya iz detstva - 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Рисунок 1" descr=""/>
          <p:cNvPicPr/>
          <p:nvPr/>
        </p:nvPicPr>
        <p:blipFill>
          <a:blip r:embed="rId2"/>
          <a:stretch/>
        </p:blipFill>
        <p:spPr>
          <a:xfrm>
            <a:off x="1285920" y="1571760"/>
            <a:ext cx="6588000" cy="4454280"/>
          </a:xfrm>
          <a:prstGeom prst="rect">
            <a:avLst/>
          </a:prstGeom>
          <a:ln w="0">
            <a:noFill/>
          </a:ln>
        </p:spPr>
      </p:pic>
      <p:sp>
        <p:nvSpPr>
          <p:cNvPr id="559" name="Прямоугольник 2"/>
          <p:cNvSpPr/>
          <p:nvPr/>
        </p:nvSpPr>
        <p:spPr>
          <a:xfrm>
            <a:off x="285840" y="2858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Хоть и задрал он кверху нос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о это вовсе не всерьёз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и перед кем он не гордится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Кто пить захочет - убедитс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Рисунок 1" descr=""/>
          <p:cNvPicPr/>
          <p:nvPr/>
        </p:nvPicPr>
        <p:blipFill>
          <a:blip r:embed="rId2"/>
          <a:stretch/>
        </p:blipFill>
        <p:spPr>
          <a:xfrm>
            <a:off x="3214800" y="357120"/>
            <a:ext cx="5335560" cy="5859360"/>
          </a:xfrm>
          <a:prstGeom prst="rect">
            <a:avLst/>
          </a:prstGeom>
          <a:ln w="0">
            <a:noFill/>
          </a:ln>
        </p:spPr>
      </p:pic>
      <p:sp>
        <p:nvSpPr>
          <p:cNvPr id="561" name="Прямоугольник 2"/>
          <p:cNvSpPr/>
          <p:nvPr/>
        </p:nvSpPr>
        <p:spPr>
          <a:xfrm>
            <a:off x="214200" y="642960"/>
            <a:ext cx="2857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Младшая сестра грабле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Четыре зуба есть у ней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о на кухне жизнь её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И дело знает лишь своё!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Рисунок 2" descr=""/>
          <p:cNvPicPr/>
          <p:nvPr/>
        </p:nvPicPr>
        <p:blipFill>
          <a:blip r:embed="rId2"/>
          <a:stretch/>
        </p:blipFill>
        <p:spPr>
          <a:xfrm>
            <a:off x="2928960" y="1571760"/>
            <a:ext cx="5815080" cy="474804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3"/>
          <p:cNvSpPr/>
          <p:nvPr/>
        </p:nvSpPr>
        <p:spPr>
          <a:xfrm>
            <a:off x="357120" y="214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Чайника подружк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Имеет два ушка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Варит кашу, суп для Юли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И зовут её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Рисунок 1" descr=""/>
          <p:cNvPicPr/>
          <p:nvPr/>
        </p:nvPicPr>
        <p:blipFill>
          <a:blip r:embed="rId2"/>
          <a:stretch/>
        </p:blipFill>
        <p:spPr>
          <a:xfrm>
            <a:off x="3214800" y="2000160"/>
            <a:ext cx="4092480" cy="4092840"/>
          </a:xfrm>
          <a:prstGeom prst="rect">
            <a:avLst/>
          </a:prstGeom>
          <a:ln w="0">
            <a:noFill/>
          </a:ln>
        </p:spPr>
      </p:pic>
      <p:sp>
        <p:nvSpPr>
          <p:cNvPr id="565" name="Прямоугольник 2"/>
          <p:cNvSpPr/>
          <p:nvPr/>
        </p:nvSpPr>
        <p:spPr>
          <a:xfrm>
            <a:off x="357120" y="500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Если я пуста бываю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ро себя не забываю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о когда несу еду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Мимо рта я не пройду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Рисунок 1" descr=""/>
          <p:cNvPicPr/>
          <p:nvPr/>
        </p:nvPicPr>
        <p:blipFill>
          <a:blip r:embed="rId2"/>
          <a:stretch/>
        </p:blipFill>
        <p:spPr>
          <a:xfrm>
            <a:off x="3286080" y="1428840"/>
            <a:ext cx="4741920" cy="4790880"/>
          </a:xfrm>
          <a:prstGeom prst="rect">
            <a:avLst/>
          </a:prstGeom>
          <a:ln w="0">
            <a:noFill/>
          </a:ln>
        </p:spPr>
      </p:pic>
      <p:sp>
        <p:nvSpPr>
          <p:cNvPr id="567" name="Прямоугольник 2"/>
          <p:cNvSpPr/>
          <p:nvPr/>
        </p:nvSpPr>
        <p:spPr>
          <a:xfrm>
            <a:off x="285840" y="214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Среди ложек я полковник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И зовут меня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Рисунок 2" descr=""/>
          <p:cNvPicPr/>
          <p:nvPr/>
        </p:nvPicPr>
        <p:blipFill>
          <a:blip r:embed="rId2"/>
          <a:stretch/>
        </p:blipFill>
        <p:spPr>
          <a:xfrm>
            <a:off x="785880" y="1714680"/>
            <a:ext cx="7667640" cy="442260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3"/>
          <p:cNvSpPr/>
          <p:nvPr/>
        </p:nvSpPr>
        <p:spPr>
          <a:xfrm>
            <a:off x="42876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Она бывает глубок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Она бывает мелк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Однако, это не река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Рисунок 1" descr=""/>
          <p:cNvPicPr/>
          <p:nvPr/>
        </p:nvPicPr>
        <p:blipFill>
          <a:blip r:embed="rId2"/>
          <a:stretch/>
        </p:blipFill>
        <p:spPr>
          <a:xfrm>
            <a:off x="2357280" y="1785960"/>
            <a:ext cx="6350040" cy="4470480"/>
          </a:xfrm>
          <a:prstGeom prst="rect">
            <a:avLst/>
          </a:prstGeom>
          <a:ln w="0">
            <a:noFill/>
          </a:ln>
        </p:spPr>
      </p:pic>
      <p:sp>
        <p:nvSpPr>
          <p:cNvPr id="571" name="Прямоугольник 2"/>
          <p:cNvSpPr/>
          <p:nvPr/>
        </p:nvSpPr>
        <p:spPr>
          <a:xfrm>
            <a:off x="428760" y="357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Если хорошо заточен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Все легко он режет очень –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Хлеб, картошку, свеклу, мясо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Рыбу, яблоки и масло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Рисунок 2" descr=""/>
          <p:cNvPicPr/>
          <p:nvPr/>
        </p:nvPicPr>
        <p:blipFill>
          <a:blip r:embed="rId2"/>
          <a:stretch/>
        </p:blipFill>
        <p:spPr>
          <a:xfrm>
            <a:off x="2714760" y="1643040"/>
            <a:ext cx="5884560" cy="454032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3"/>
          <p:cNvSpPr/>
          <p:nvPr/>
        </p:nvSpPr>
        <p:spPr>
          <a:xfrm>
            <a:off x="357120" y="357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осит вод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Хозяину в угоду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ри нем живе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ока не упадет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4:49:04Z</dcterms:created>
  <dc:creator>Spamer</dc:creator>
  <dc:description/>
  <dc:language>en-US</dc:language>
  <cp:lastModifiedBy>Преподаватель</cp:lastModifiedBy>
  <dcterms:modified xsi:type="dcterms:W3CDTF">2012-04-16T09:28:42Z</dcterms:modified>
  <cp:revision>22</cp:revision>
  <dc:subject/>
  <dc:title>Презентация PowerPoint</dc:title>
</cp:coreProperties>
</file>